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8DDA-90FF-4F34-9BD3-82EF4CBAC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6721-E353-48DE-8CF2-60CF9B44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049C-4956-4933-BDB8-7293DADC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E028-9A4C-4BFE-A5B5-C871653E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A534-1B29-44E6-8F06-4C3DA7DF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5C3E-AF78-492E-80F8-C430D288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73D8-4E07-4E40-A784-976DDB49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7EB0-8E5F-45F9-BDDA-1ADADC5F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D877-CC00-4EFE-AC47-6AA513C5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9E7D-FBC8-4FFF-9F4D-62654DAB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C978-54D3-4446-80B4-7015D3B9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5ABB-66BE-4261-A848-86370ED4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7D94-AC9B-4A27-A152-F14D60B9F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5000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nald Reag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born in February 6, 1911 in Tampico, Illino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parents were John Edward Reagan and Nelle Wilson Rea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religion was the Disciples of Chr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a Republic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892760" y="1600200"/>
            <a:ext cx="3547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nald Reag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had 4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his children, Maureen Elizabeth Reagan, d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graduated from Eureka College in 193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the governor of California from 1965-196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an actor and a public official before he became presi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305240" y="1523880"/>
            <a:ext cx="4381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nald Reag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vice president was George H.W. Bu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got divorced from Jane Wyman in 1948 and married Nancy Davis on March 4, 195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nicknames were “The Gipper”, “The Great Communicator”, and “Dutch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8320" y="1447920"/>
            <a:ext cx="40384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00"/>
            </a:gs>
            <a:gs pos="50000">
              <a:srgbClr val="990000"/>
            </a:gs>
            <a:gs pos="100000">
              <a:srgbClr val="4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nald Reag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served for 8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the longest living presi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the oldest elected presi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once said “All great changes begin at the dinner tabl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eans most great changes started at the dinner table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95680" y="1581120"/>
            <a:ext cx="41911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5000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nald Reag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salary was $200,000 a year plus $50,000 expense accou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March 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re was an assassination attempt by John W. Hinkley outside Washington D.C. Hilton Hot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died on June 5, 2004 in Los Angeles from Alzheimer's diseas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48320" y="167652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4:42:58Z</dcterms:created>
  <dc:creator>omc</dc:creator>
  <dc:description/>
  <dc:language>en-US</dc:language>
  <cp:lastModifiedBy>omc</cp:lastModifiedBy>
  <dcterms:modified xsi:type="dcterms:W3CDTF">2008-11-20T16:01:57Z</dcterms:modified>
  <cp:revision>5</cp:revision>
  <dc:subject/>
  <dc:title>Ronald Reagan</dc:title>
</cp:coreProperties>
</file>